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A82-109B-4D01-8369-E9A17F75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264-448D-4BAF-AD1A-7AF45978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EA7-F6C1-4B4B-BC8A-49B3A312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992-8BCD-491A-896A-CC9B98D1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3EB-06A0-48F5-95E3-21DD343D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95C-9A27-45E3-BB99-CE5B71C1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6B7-DF45-439B-8C63-C438CDF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9FF-53F4-41A5-91EB-4702646A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C5B-0056-4E7B-8459-164AE332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327-A98F-41BB-BA1E-FC1A7A03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FBB-0B64-431E-ADB3-AAEF1B8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A20-1AF8-4BFE-9C49-FDB417D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E64D-224C-408A-AE89-9E091950D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8:13:50Z</dcterms:created>
  <dc:creator>ivtkaf</dc:creator>
  <dc:description/>
  <dc:language>en-US</dc:language>
  <cp:lastModifiedBy>ivtkaf</cp:lastModifiedBy>
  <dcterms:modified xsi:type="dcterms:W3CDTF">2009-12-11T08:13:54Z</dcterms:modified>
  <cp:revision>1</cp:revision>
  <dc:subject/>
  <dc:title>Слайд 1</dc:title>
</cp:coreProperties>
</file>